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drumroll.wav" ContentType="audio/x-wav"/>
  <Override PartName="/ppt/media/applause.wav" ContentType="audio/x-wav"/>
  <Override PartName="/ppt/media/image4.wmf" ContentType="image/x-wmf"/>
  <Override PartName="/ppt/media/image5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media/image10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E5F5-B9BD-4F8D-BF84-94430F62E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2613-D89D-4AA8-A94B-35FC70E3F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EF6B-0040-4B5B-A957-B068573ED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C454-EBCF-4FDB-B893-564A453CB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F49CC-586C-444B-BB6E-E8084CABE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85EDE-4B2E-47C0-8373-132CEAFD8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73733-F8B8-4D60-901E-8B722F9B0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8A637-8F5E-458A-A4FD-8994990C7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E3547-5978-464A-B7F1-9EA54C1E6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E3AA2-5FB6-4A77-8905-04CCF76A4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F34F1-4200-414C-BE70-31CB1F588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7AD3-E544-4AF5-AC97-5482A2105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2DBEC-188B-4EC7-85C6-6497A8F1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A9BF5-EBC8-40B4-8960-6082F1FF2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57CAE-FA70-443F-8016-937A0E6F4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2685A-F671-47D7-8A59-BE5BC02D7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5339E-0BBD-43BC-8CD9-372D5C282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509C-4E21-4F15-9805-35100D9B1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4A8F-C584-4F8C-B5C5-9B36D80F2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F33D-68D3-4758-821F-6AFC897CE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6135-ED1C-4F9C-BAA6-85602075A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BE3C-9139-4BFF-B7DB-3FF161BC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F81C-1ECD-46C9-BE98-EABC0E6D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39FF-2ED1-442D-9D18-739849E07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0522A-1D4D-4891-BB12-9F90BF67B8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B47BC-2E5F-481B-805F-D6E8EE6A84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audio" Target="../media/drumroll.wav"/><Relationship Id="rId7" Type="http://schemas.openxmlformats.org/officeDocument/2006/relationships/audio" Target="../media/drumroll.wav"/><Relationship Id="rId8" Type="http://schemas.openxmlformats.org/officeDocument/2006/relationships/audio" Target="../media/drumroll.wav"/><Relationship Id="rId9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baseballinstinct.com/2011/07/18/touchem-all-top-mlb-sally-league-pitching-prospects/jesse-biddle/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ballandbat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2437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Satchel Paige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Vocabulary Wo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Picture 6" descr="SATCHEL PAIGE"/>
          <p:cNvPicPr/>
          <p:nvPr/>
        </p:nvPicPr>
        <p:blipFill>
          <a:blip r:embed="rId2"/>
          <a:stretch/>
        </p:blipFill>
        <p:spPr>
          <a:xfrm>
            <a:off x="5943600" y="380880"/>
            <a:ext cx="2817720" cy="3429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6840" y="563832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Gra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0769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r style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uniqu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qua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pecia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3352680" y="3886200"/>
            <a:ext cx="22860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ach Davis has a lot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onfidenc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 the team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reat player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ureness in the ability of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1066680" y="4419720"/>
            <a:ext cx="67057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0" y="45684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imothy, Cody and Nick play in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outfiel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ound the pitcher stands 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t of the field most distant from the batte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685800" y="4038480"/>
            <a:ext cx="80773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56840" y="456840"/>
            <a:ext cx="79246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dy wa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mockin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ome of the other players while his team was in the lea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heeri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auntin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895480" y="4495680"/>
            <a:ext cx="35053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me pitchers have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weaknes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when it comes to batt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east-developed skill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rand-slam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2133720" y="3581280"/>
            <a:ext cx="47242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-360" y="456840"/>
            <a:ext cx="8839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Red Sox’s starting pitcher had a uniqu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windup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at made him hard to hi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dding to the catch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w a pitcher moves before throwing the bal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0" y="4343400"/>
            <a:ext cx="88390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fastball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s practically untouchabl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urvy pitch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peedy pitc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2286000" y="4343400"/>
            <a:ext cx="35812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0360" y="3276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0000"/>
                </a:solidFill>
                <a:latin typeface="Comic Sans MS"/>
              </a:rPr>
              <a:t>You’ve got it!</a:t>
            </a:r>
            <a:endParaRPr b="0" lang="en-US" sz="10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98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ballandbat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Rectangle 8"/>
          <p:cNvSpPr/>
          <p:nvPr/>
        </p:nvSpPr>
        <p:spPr>
          <a:xfrm>
            <a:off x="152280" y="1295280"/>
            <a:ext cx="3581640" cy="10670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confidence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533520" y="2666880"/>
            <a:ext cx="3962160" cy="914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fastball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Rectangle 10"/>
          <p:cNvSpPr/>
          <p:nvPr/>
        </p:nvSpPr>
        <p:spPr>
          <a:xfrm>
            <a:off x="457200" y="3886200"/>
            <a:ext cx="3581280" cy="9907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mocking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Rectangle 11"/>
          <p:cNvSpPr/>
          <p:nvPr/>
        </p:nvSpPr>
        <p:spPr>
          <a:xfrm>
            <a:off x="1371600" y="5334120"/>
            <a:ext cx="3048120" cy="1143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outfield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Rectangle 12"/>
          <p:cNvSpPr/>
          <p:nvPr/>
        </p:nvSpPr>
        <p:spPr>
          <a:xfrm>
            <a:off x="4800600" y="1371600"/>
            <a:ext cx="3733920" cy="914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unique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Rectangle 13"/>
          <p:cNvSpPr/>
          <p:nvPr/>
        </p:nvSpPr>
        <p:spPr>
          <a:xfrm>
            <a:off x="4876920" y="3276720"/>
            <a:ext cx="3581280" cy="12189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Rectangle 14"/>
          <p:cNvSpPr/>
          <p:nvPr/>
        </p:nvSpPr>
        <p:spPr>
          <a:xfrm>
            <a:off x="5029200" y="5105520"/>
            <a:ext cx="3733920" cy="9903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windup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Rectangle 15"/>
          <p:cNvSpPr/>
          <p:nvPr/>
        </p:nvSpPr>
        <p:spPr>
          <a:xfrm>
            <a:off x="304920" y="0"/>
            <a:ext cx="7696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Words to Know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276360" y="2362320"/>
            <a:ext cx="51051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a weak point; slight fault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3581280" y="533520"/>
            <a:ext cx="3581640" cy="12189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228600" y="1219320"/>
            <a:ext cx="2666880" cy="3962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fidenc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astball,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ocki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utfiel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uniqu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indup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Picture 5" descr="MPj03096340000[1]"/>
          <p:cNvPicPr/>
          <p:nvPr/>
        </p:nvPicPr>
        <p:blipFill>
          <a:blip r:embed="rId1"/>
          <a:stretch/>
        </p:blipFill>
        <p:spPr>
          <a:xfrm>
            <a:off x="228600" y="762120"/>
            <a:ext cx="32083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2971800" y="2362320"/>
            <a:ext cx="5410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the three players in the outfield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4038480" y="609480"/>
            <a:ext cx="3581640" cy="12193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outfield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228600" y="1219320"/>
            <a:ext cx="2666880" cy="3962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fidenc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astball,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ocki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utfiel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uniqu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indup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8" descr="MCj02956620000[1]"/>
          <p:cNvPicPr/>
          <p:nvPr/>
        </p:nvPicPr>
        <p:blipFill>
          <a:blip r:embed="rId1"/>
          <a:stretch/>
        </p:blipFill>
        <p:spPr>
          <a:xfrm>
            <a:off x="2895480" y="5025960"/>
            <a:ext cx="2024280" cy="18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657240" y="2437920"/>
            <a:ext cx="51814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a pitch thrown at high speed with very little curve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4343400" y="1143000"/>
            <a:ext cx="3581280" cy="12193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fastball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228600" y="1219320"/>
            <a:ext cx="2666880" cy="3962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fidenc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astball,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ocki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utfiel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uniqu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indup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Picture 8" descr="http://baseballinstinct.com/wp-content/uploads/2011/07/Jesse-Biddl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2590920"/>
            <a:ext cx="2381400" cy="24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581280" y="1905120"/>
            <a:ext cx="47246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having no like or equal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3733920" y="457200"/>
            <a:ext cx="3733560" cy="12193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unique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228600" y="1219320"/>
            <a:ext cx="2666880" cy="3962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fidenc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astball,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ocki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utfiel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uniqu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indup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Picture 8" descr="MPj04332110000[1]"/>
          <p:cNvPicPr/>
          <p:nvPr/>
        </p:nvPicPr>
        <p:blipFill>
          <a:blip r:embed="rId1"/>
          <a:stretch/>
        </p:blipFill>
        <p:spPr>
          <a:xfrm>
            <a:off x="4038480" y="3352680"/>
            <a:ext cx="4114800" cy="32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276360" y="2362320"/>
            <a:ext cx="51051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laughing at; making fun of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3581280" y="762120"/>
            <a:ext cx="4038840" cy="1143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mocking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228600" y="1219320"/>
            <a:ext cx="2666880" cy="3962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fidenc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astball,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ocki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utfiel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uniqu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indup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Picture 6" descr="MCj03792570000[1]"/>
          <p:cNvPicPr/>
          <p:nvPr/>
        </p:nvPicPr>
        <p:blipFill>
          <a:blip r:embed="rId1"/>
          <a:stretch/>
        </p:blipFill>
        <p:spPr>
          <a:xfrm>
            <a:off x="3124080" y="4648320"/>
            <a:ext cx="2895840" cy="17431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MCPE06927_0000[1]"/>
          <p:cNvPicPr/>
          <p:nvPr/>
        </p:nvPicPr>
        <p:blipFill>
          <a:blip r:embed="rId2"/>
          <a:stretch/>
        </p:blipFill>
        <p:spPr>
          <a:xfrm>
            <a:off x="6553080" y="4191120"/>
            <a:ext cx="177012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048120" y="2362320"/>
            <a:ext cx="5486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a swinging movement of the arms while twisting the body just before pitching the ball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3962520" y="762120"/>
            <a:ext cx="3581280" cy="12189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windup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228600" y="1219320"/>
            <a:ext cx="2666880" cy="3962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fidenc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astball,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ocki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utfiel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uniqu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indup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Picture 13" descr="http://theredzonereport.com/wp-content/uploads/2009/06/cole_hamels_phillies.jpg"/>
          <p:cNvPicPr/>
          <p:nvPr/>
        </p:nvPicPr>
        <p:blipFill>
          <a:blip r:embed="rId1"/>
          <a:stretch/>
        </p:blipFill>
        <p:spPr>
          <a:xfrm>
            <a:off x="152280" y="228600"/>
            <a:ext cx="283860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3048120" y="2362320"/>
            <a:ext cx="5486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firm belief in yourself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3962520" y="762120"/>
            <a:ext cx="3581280" cy="12189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confidence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228600" y="1219320"/>
            <a:ext cx="2666880" cy="3962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fidenc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astball,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ocki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utfiel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uniqu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indup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Picture 5" descr="MCj04258260000[1]"/>
          <p:cNvPicPr/>
          <p:nvPr/>
        </p:nvPicPr>
        <p:blipFill>
          <a:blip r:embed="rId1"/>
          <a:stretch/>
        </p:blipFill>
        <p:spPr>
          <a:xfrm>
            <a:off x="3429000" y="4572000"/>
            <a:ext cx="1835280" cy="16984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MCj03966600000[1]"/>
          <p:cNvPicPr/>
          <p:nvPr/>
        </p:nvPicPr>
        <p:blipFill>
          <a:blip r:embed="rId2"/>
          <a:stretch/>
        </p:blipFill>
        <p:spPr>
          <a:xfrm>
            <a:off x="6324480" y="4495680"/>
            <a:ext cx="112392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3T04:11:38Z</dcterms:created>
  <dc:creator>Jefferson County BoE</dc:creator>
  <dc:description/>
  <dc:language>en-US</dc:language>
  <cp:lastModifiedBy>Lisa</cp:lastModifiedBy>
  <dcterms:modified xsi:type="dcterms:W3CDTF">2012-09-30T14:10:01Z</dcterms:modified>
  <cp:revision>23</cp:revision>
  <dc:subject/>
  <dc:title>Frindle Vocabulary Words</dc:title>
</cp:coreProperties>
</file>